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7DEB-5487-4D24-AFDA-E5EFFFB1F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6F8D-BBCB-4052-9F8A-65D64314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52DA-049C-4BCE-9DA3-08AE63B5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A8BC-6975-4657-83B7-5018EAECD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8642-8D6E-4FD6-8904-AE40AB474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39A3-2DEB-499F-B425-FA75BEDE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C486-505B-4505-9B05-83F531D8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C9C0-19DE-467A-95E9-0A79F654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B9C0-B5E2-4342-A991-F513FC00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9CF8-8C95-41A3-B5E9-82497991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B076-9738-471F-BBFB-E848E5D7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7655-73C9-42C8-A1E2-09359605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8BC3-7BE1-47E0-AD13-17C3A44F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1B8F-DA52-483C-AA7C-A0E68DBE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314F-8C07-43F5-B1B9-5C31352E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4512-29D3-4E4A-BBAD-6F295824F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560B-6AC9-4320-8941-13A34E287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B07B-3F56-4D19-94AF-207E543B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F91D-5F57-477C-87ED-E7700A80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417A-8840-43B5-81AC-20DE65FA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4E0B-064C-4C46-9D29-38BDD4B8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0A5A-8406-45AA-BEDD-A7EEC60B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2472-783C-4074-A615-2BD8BFE3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05F6-AA2E-4EAD-809B-F95BD356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5116-1C1D-4916-B1B1-30C95AF24C4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3244-6085-4A79-A556-49DB7A8F220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ASADY DYNAMIKI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NEWTON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7960" y="5334120"/>
            <a:ext cx="4012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r Dorota Szczerbe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4680" y="414720"/>
            <a:ext cx="763884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914040"/>
            <a:ext cx="71629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świadczeni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 stole połóż kartkę (np. A4), a na niej książkę z fizyki (lub piórnik). Następnie wyciągnij (poziomo) kartkę. Najpierw powoli, a potem dość energiczn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Co obserwujesz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488160"/>
            <a:ext cx="79246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762120"/>
            <a:ext cx="792468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śli kartkę wyciągasz powoli, to przesuwa się ona wraz z książką (lub piórniki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śli kartkę wyciągniesz dość energicznie, to książka (lub piórnik) pozostanie na swoim miejsc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laczeg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nieważ książka (lub piórnik) „nie chce” zmieniać swojego dotychczasowego stanu – była w spoczynku      i chce w nim pozosta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335520"/>
            <a:ext cx="79246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1760" y="304920"/>
            <a:ext cx="79246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świadczeni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waga! Do tego doświadczenia potrzebna jest wpraw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stole połóż obrus, a na nim talerze i/lub kubki. Następnie dość energicznie pociągnij za obrus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 obserwujesz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erze i/lub kubki zostają na miejsc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ak to wyjaśnisz?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że potrafisz ta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k ten mężczyz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522600" y="4648320"/>
            <a:ext cx="1459080" cy="195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335520"/>
            <a:ext cx="79246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456840"/>
            <a:ext cx="77724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świadczeni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szklance połóż kartę, a na niej monetę. Następnie szybko wyciągnij kart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 obserwujesz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ta wpada do szklan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ak to wyjaśnisz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038480" y="2438280"/>
            <a:ext cx="1513080" cy="167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29440" y="121032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bliografia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62120" y="251460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.Francuz – Ornat, T.Kulawik, M.Nowotny – Różańska,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Spotkania z fizyką, podręcznik dla gimnazjum, część 3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Nowa Era, Warszawa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ttps://www.googl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zasada dynamiki Newton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(zasada bezwładności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zasada dynamiki Newtona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3177720"/>
            <a:ext cx="76932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żeli na ciało nie działają żadne siły lub działające siły równoważą się, to ciało pozostaje w spoczynku lub porusza się ruchem jednostajnym prostoliniowy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47920" y="3505320"/>
            <a:ext cx="2077920" cy="24382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ykładem sytuacji, w której siły działające na ciało równoważą się, a ciało porusza się ruchem jednostajnym, jest opadanie skoczka z otwartym spadochronem.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opadającego w powietrz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oczka ze spadochrone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ziała skierowana w dół sił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h ciężaru oraz skierowana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górę siła oporu powietrza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ły te równoważą się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spadochroniarz opad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chem jednostajny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zasada dynamiki Newton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st nazywana zasadą bezwładnoś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2361960"/>
            <a:ext cx="3652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zwładnoś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cecha ciała polegająca na tym, że ciało dąży do zachowania stanu (ruchu lub spoczynku),         w którym się znajdu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83280" y="2361960"/>
            <a:ext cx="3348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a jest miarą bezwładności ciał (łatwiej jest zatrzymać czy wprawić w ruch piłkę niż samochó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906200" y="2863440"/>
            <a:ext cx="5697720" cy="16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zwładność obserwuje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iemal codzienn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4200"/>
            <a:ext cx="883944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80920" y="1066680"/>
            <a:ext cx="5410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mowanie podczas jazdy samochodem lub autobu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śli poruszamy się przodem do kierunku jazdy i kierowca zacznie hamować, to nasze ciało przesunie się do przod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laczego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nieważ poruszało się do przodu  i nadal chce zachować swój stan – ruch do przo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2743200" cy="183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4680" y="305280"/>
            <a:ext cx="76388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33920" y="837720"/>
            <a:ext cx="49528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zas ruszania auta               z miejs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dy samochód rusza, to nasze ciało zostaje „wciśnięte” w fot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laczeg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sze ciało było                   w spoczynku i nadal chce pozostać w tym stani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2819160" cy="188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2743200"/>
            <a:ext cx="793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zwładność możemy zaobserwowa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 wielu doświadczeni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1T21:46:26Z</dcterms:created>
  <dc:creator>admin</dc:creator>
  <dc:description/>
  <dc:language>en-US</dc:language>
  <cp:lastModifiedBy>Badyl</cp:lastModifiedBy>
  <dcterms:modified xsi:type="dcterms:W3CDTF">2014-04-28T12:41:46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